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C541-AE68-4A74-AC4F-6AC8CE4D6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30B-23E7-4196-89B9-3E70D338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B84-DD34-4E9E-97E3-4521B9D2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256-31B7-45BE-80B2-AE534DB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C48-36DC-4DB1-B89A-9379A52D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899-823C-4504-BE3E-362A2739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374-0207-4D13-98DB-25687BD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5AC-8B4B-4367-B5FD-8968E01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C0C-DCFC-4ADC-AEF4-3DFF50A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307-2515-405B-BBB8-AF2D24F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35B-CE16-47BD-92F9-C164CA0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BE1-6AE3-4497-8C34-BE61C87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8B3-C9BB-43A9-B2C4-4AC96C4C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70D-0675-48D1-926E-087EC28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AB7-2091-4653-BBAF-D420C485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 County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144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d from “Discovering An Organization’s Culture” by Dr. Wally Schmidt, Rollins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encouraged to be creativ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as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mployees are bright and capable of quality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and change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ompetition among employees and between departments is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Groups work we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 Employees help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 Supervisors cooperate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among employees and between departments is dis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9.2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ork well toge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help each 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cooperate with one an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1.6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Cha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hav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account for the amazing chan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Areas to 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nes of responsibility are clear and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Jobs and services are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The services and divisions/departments of the company are organized eff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 Task scheduling is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Negativ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of responsibility are clear and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% -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s and services are clearly defin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0% True / 50%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and divisions/departments of the company are organized effe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3.7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cheduling is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1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Employees can influence decision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The administration makes effectiv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 Information is readily available to help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 Decisions are made in a timely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 Grievances and problems are well hand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Low Neut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influence decisions that affect them.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ministration makes effectiv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is readily available to help mak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1.8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are made in a timely fashion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  Grievances and problems are well handl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6.3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upervisors, employees, and staff are interested in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Supervisors are excited about their jobs and encourage employe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 Employee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 Supervisor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, employees, and staff are interested in their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7.5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excited about their jobs and encourage employee developmen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7.2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Employees are encouraged to be cre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New ideas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Most employees are bright and capable of qualit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 Innovation and change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9:21:04Z</dcterms:created>
  <dc:creator>Randall Dobbs User</dc:creator>
  <dc:description/>
  <dc:language>en-US</dc:language>
  <cp:lastModifiedBy>Randall Dobbs User</cp:lastModifiedBy>
  <dcterms:modified xsi:type="dcterms:W3CDTF">2009-09-13T15:22:37Z</dcterms:modified>
  <cp:revision>10</cp:revision>
  <dc:subject/>
  <dc:title>Clarke County School District</dc:title>
</cp:coreProperties>
</file>